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7A0-58FC-41D2-A27D-2CEDF9713471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DCF-34B7-47BD-B7D4-997BC3D64F32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9CF-874C-4854-82A3-73122085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8DBB-C712-4BF5-A146-BCE333A04B6C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B84-3CDB-4915-9D1E-53F16E309F8D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067-7ED5-41C2-9325-482381A75D6F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585-D22B-4A54-B42D-D50730BF442F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2E5-E4E0-4D79-B9B6-4505430E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90B-E134-416A-84BA-9C6BDAEED4C7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0D1-1D0F-4818-A84A-9769331A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540-8514-47E0-8E7C-29F99786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017-874C-4F86-94D4-73508F674A7D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BF32-E74B-4179-A729-32D43B13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BD0-5F43-403A-88E3-DDE8A721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A54B-558D-4941-B319-674DDB21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0C8B-36BB-4C93-AFEE-EE4C627AF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7B89-4780-418E-B3DF-8942C1F58CE6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A193-93CF-48BD-8B79-5D513D60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226B-97FD-45BF-8497-73857306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E7D-ED00-42AE-9244-0E1EA46C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FCE-6B09-4B3A-AF5A-E5DB0ED4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E86-B771-4905-B2BA-C31B86E3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349-368C-4B0C-A230-F9C0FAF5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0A83-560C-4D18-A9C3-7D8BFE62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445-E9F9-4A96-8A75-91ADE9EFA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BBE-63CD-4A9B-8EEF-99CFD8F2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4074-9592-412A-A71E-4CD60923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B93-5E09-41FD-A462-531E646A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09D-8F26-445D-8989-E00E5078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C5F-3484-4D8C-9033-5214B511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BE7F-A9C0-45D0-85AA-12E64FBD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B648-0F4D-446B-8470-1AF1FFD79954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2B3-A7CD-4DDC-8D40-10DB25E7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8BEB-83C7-403F-89EF-9C920964EBE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1C7-9612-4964-ADE0-1A895F9950E5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ADFE-768C-47CA-8585-EF8A023D1E6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D91-9ADD-4E5D-AAEB-40694EBF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653-92BA-45B9-8332-6E073F48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36E-75C8-43DD-9562-228D9CD7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E85-559A-41D4-9E25-08188C60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F99A-E98F-4203-BEED-E58B1E5D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1D81-BD65-4728-ADF0-143146CF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336-B3F7-4E94-B0C0-B96AD30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8255-94DA-4FDD-B0DB-21003AE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59A-8532-40E8-AB09-7B243A3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E986-6126-4F98-B61D-CEE7589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5A2-A805-4A5B-911B-D105D2E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09F-818E-4C86-9BD2-05E95AA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D6B-84BC-44CF-A836-94E3E18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29E0-AE90-4D1E-A7C0-6325157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27C3-BC93-42CF-87F9-BB650E4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A2A0-9923-4E4B-94E5-AF6EDB4D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08DD-FC65-48A2-A6DB-75C26E9E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F7CA-4E57-4E70-A7CE-7759F954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FCC8-384A-4090-8F62-4F4FA70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1FA8-F89B-4B39-99F1-C6D21FF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3313-C4F7-4128-9F06-F1E0303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F2E8-9B57-40C4-860F-63ED93FB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9FA-E11C-48D4-B1A5-6F5DDCA1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EF1D-119A-4D64-9DD4-BDD27A0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C029-ED92-4A8E-BB8C-9B28729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DF24-3AEB-4008-A4B2-CEC3AEE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86EC-7E5F-46B2-B67E-64D1E35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1A5F-91EF-48FF-A505-35FD3C8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D092-B481-4BE0-A21D-8457452D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3BDB-F22F-4EDF-8BB1-50751218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44D0-6B5C-45EE-A327-A2D89DF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3CAE-D357-440D-A1A1-7C1CB6C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189B-F4B1-4B4A-A040-AD84DB8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C07-9BFD-4DD2-8214-1AC000D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8369-57C4-4DD4-9AAC-98C780B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D685-BEF4-4C5B-B47D-700B2C6A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647D-BC89-4A01-903B-63C4440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79F4-0D98-43D9-B6DD-D158A40D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CD7B-DD0E-4EBF-AC00-2977DB41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40F5-C9E6-41E1-AC5B-927D7C2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A3B8-D915-4621-9EC3-A3E3EBDB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E7DE-CA20-4950-B182-D0BB7B3D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6362-2038-45D8-B250-6CA29E95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5F6-23F5-4A00-B1ED-C8E2059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78E-41A6-4C49-B7E2-7AB5620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B85-A655-4ECC-8831-3D20478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256-1A48-4597-B883-3F63B8D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DAC-ED62-446E-8F62-561FA23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6B6-FDA5-460D-BF1E-C6EDD72A06FE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e3e9f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3CA-80CF-4709-A7B0-142A0E90750B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F1E-B673-4DA8-8297-35767D875D01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e3e9f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3071-F7D6-4D85-A132-6DE4DC9869CC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&amp; Atm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149120"/>
            <a:ext cx="754380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air pollutants include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unburnt hydrocarbon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methane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Other Pollutants</a:t>
            </a:r>
            <a:r>
              <a:rPr b="1" lang="en-AU" sz="1800" spc="-1" strike="noStrike">
                <a:solidFill>
                  <a:srgbClr val="3f3f2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1004760" y="3006720"/>
            <a:ext cx="7337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nburnt hydrocarbons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re released in car exhaus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938160" y="4094280"/>
            <a:ext cx="754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colourless and odourless ga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d when plant and animal matter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decay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950760" y="5148360"/>
            <a:ext cx="754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lso produced from the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decay of rubbish in landfill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963720" y="6154560"/>
            <a:ext cx="754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 is a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greenhouse ga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s of 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usually has a pH that is slightly below 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in the air dissolves in rainwater to form  carbonic acid, which is a weak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cid rain has a pH value of 4 or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844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270000" y="621972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nimation on Acid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5400" y="158760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Acid rain is formed when acidic air pollutants such as sulfur dioxide (SO</a:t>
            </a:r>
            <a:r>
              <a:rPr b="0" lang="en-SG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) and nitrogen dioxide (NO</a:t>
            </a:r>
            <a:r>
              <a:rPr b="0" lang="en-SG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) dissolve in rain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Sulfur dioxide dissolves in water to form 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sulphurous acid 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(H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Chemical equation: S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+ 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O(</a:t>
            </a:r>
            <a:r>
              <a:rPr b="0" i="1" lang="en-AU" sz="2200" spc="-1" strike="noStrike">
                <a:solidFill>
                  <a:srgbClr val="3f3f2c"/>
                </a:solidFill>
                <a:latin typeface="Arial"/>
              </a:rPr>
              <a:t>l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 </a:t>
            </a:r>
            <a:r>
              <a:rPr b="0" lang="en-AU" sz="2200" spc="-1" strike="noStrike">
                <a:solidFill>
                  <a:srgbClr val="3f3f2c"/>
                </a:solidFill>
                <a:latin typeface="Wingdings"/>
                <a:ea typeface="Wingdings"/>
              </a:rPr>
              <a:t>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In the presence of oxygen in the air, acid is slowly oxidised to sulphuric acid (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.</a:t>
            </a:r>
            <a:r>
              <a:rPr b="1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In the presence of oxygen and water,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 nitrogen dioxide is converted to nitric acid.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4N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+ 2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O(</a:t>
            </a:r>
            <a:r>
              <a:rPr b="0" i="1" lang="en-AU" sz="2200" spc="-1" strike="noStrike">
                <a:solidFill>
                  <a:srgbClr val="3f3f2c"/>
                </a:solidFill>
                <a:latin typeface="Arial"/>
              </a:rPr>
              <a:t>l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 + 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</a:t>
            </a:r>
            <a:r>
              <a:rPr b="0" lang="en-AU" sz="2200" spc="-1" strike="noStrike">
                <a:solidFill>
                  <a:srgbClr val="3f3f2c"/>
                </a:solidFill>
                <a:latin typeface="Wingdings"/>
                <a:ea typeface="Wingdings"/>
              </a:rPr>
              <a:t>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4HN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fects of acid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25520" y="1050840"/>
            <a:ext cx="8396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des metal structures such as fences and brid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acts with carbo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marble and limeston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es 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of natural water bodies to below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ill fish and other aquatic life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ch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ortant nutr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stroys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4797360" y="4108320"/>
            <a:ext cx="3272040" cy="245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3"/>
          <a:stretch/>
        </p:blipFill>
        <p:spPr>
          <a:xfrm>
            <a:off x="1614600" y="4095720"/>
            <a:ext cx="28209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ucing effects of 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ytic Conver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990720" y="1523880"/>
            <a:ext cx="7010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ttached to the exhaust system of a ca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cataly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- platinum and rhodi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9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16768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9"/>
          <p:cNvSpPr/>
          <p:nvPr/>
        </p:nvSpPr>
        <p:spPr>
          <a:xfrm>
            <a:off x="372960" y="1135080"/>
            <a:ext cx="84362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Catalytic converters involve the 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dox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 is oxidised to carbon dioxide. Oxides of nitrogen are reduced to nit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. Nitrogen monoxide + carbon monoxi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itrogen +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NO (g) + 2 CO (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burnt hydrocarbons are oxidised to carbon dioxide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g. Octane + oxy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rbon dioxide + water va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 25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18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alytic Conver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ong r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control air pollution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less fossil fu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9880" y="3049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riest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9880" y="990360"/>
            <a:ext cx="4724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experiments and observations of different kinds of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to isolat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the first carbonated soft dr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260028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1295280" y="3429000"/>
            <a:ext cx="2471760" cy="33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5145120" y="35812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ways of minimising the effects of sulfur dioxide pol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914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e Gas Desulfu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914400" y="2743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Remove sulfur from fossil fuels before burning. However, this method is too expensive and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14400" y="4114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Remove sulfur dioxide from the waste g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flue gase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b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cess known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esulfu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9237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Happens in Desulfuris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914400" y="182880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lfur dioxide reacts with an aqueous suspension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soli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sulf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3200400"/>
            <a:ext cx="647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CaC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 </a:t>
            </a:r>
            <a:r>
              <a:rPr b="0" lang="en-US" sz="2600" spc="-1" strike="noStrike">
                <a:solidFill>
                  <a:srgbClr val="0551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 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C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990720" y="4038480"/>
            <a:ext cx="754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lcium sulfite is further oxidised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sulf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atmospheric oxyg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905120" y="5029200"/>
            <a:ext cx="647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 </a:t>
            </a:r>
            <a:r>
              <a:rPr b="0" lang="en-US" sz="2600" spc="-1" strike="noStrike">
                <a:solidFill>
                  <a:srgbClr val="0551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 2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9840" y="286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rol of Air Pollution in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2286000"/>
            <a:ext cx="7696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990720" y="167472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rohibitio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use of ope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ir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the disposal of domestic and industrial w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unleaded petro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hasing out of leaded pe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ductio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ermissible level of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ulfu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ie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tting of all petrol-driven vehicles with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talytic co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etion of the Ozon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ur ozone layer being deple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124080" y="252360"/>
            <a:ext cx="5588280" cy="63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262400" y="609480"/>
            <a:ext cx="468792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is a bluish, very reactive gas, whose molecule is made by three oxygen atom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ow altitudes, it can cause breathing difficulties and photochemical sm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the stratosphere, the ozone layer shields us fro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raviolet 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51ff"/>
                </a:solidFill>
                <a:latin typeface="Arial"/>
              </a:rPr>
              <a:t>Note: UV radiation can cause skin cancer, genetic mutations and cata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Content Placeholder 5" descr="form_ozone.gif"/>
          <p:cNvPicPr/>
          <p:nvPr/>
        </p:nvPicPr>
        <p:blipFill>
          <a:blip r:embed="rId2"/>
          <a:stretch/>
        </p:blipFill>
        <p:spPr>
          <a:xfrm>
            <a:off x="474840" y="166212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270000" y="621972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O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ausing the depletion of ozone in the stratosp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1295280" y="190512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Chlorofluorocarbons (CFC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219320" y="29862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ounds containing the elements carbon, fluorine and chlor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dely used as </a:t>
            </a:r>
            <a:r>
              <a:rPr b="0" lang="en-US" sz="2000" spc="-1" strike="noStrike">
                <a:solidFill>
                  <a:srgbClr val="0551ff"/>
                </a:solidFill>
                <a:latin typeface="Arial"/>
              </a:rPr>
              <a:t>propellants for aeros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s</a:t>
            </a:r>
            <a:r>
              <a:rPr b="0" lang="en-US" sz="2000" spc="-1" strike="noStrike">
                <a:solidFill>
                  <a:srgbClr val="0551ff"/>
                </a:solidFill>
                <a:latin typeface="Arial"/>
              </a:rPr>
              <a:t> coolants in refrigerators and air conditio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7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arbon 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85880" y="31813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Carb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811080" y="1557360"/>
            <a:ext cx="7620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551ff"/>
                </a:solidFill>
                <a:latin typeface="Arial"/>
                <a:ea typeface="Times New Roman"/>
              </a:rPr>
              <a:t>The mechanism that maintains the level of carbon dioxide in the atmosphere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called the 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cycle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171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es </a:t>
            </a:r>
            <a:r>
              <a:rPr b="0" lang="en-US" sz="2800" spc="-1" strike="noStrike">
                <a:solidFill>
                  <a:srgbClr val="0551ff"/>
                </a:solidFill>
                <a:latin typeface="Arial"/>
              </a:rPr>
              <a:t>p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8080" y="1379520"/>
            <a:ext cx="76201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spi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respiration, carbon and hydrogen compounds in food are converted into carbon dioxide and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3240" y="3909960"/>
            <a:ext cx="7620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. Combustion of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uels contain both carbon and hydrogen. When these fuels are burnt, carbon dioxide and water ar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t energy is also given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ir consist o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38080" y="144792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x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several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5486400" y="2819520"/>
            <a:ext cx="3429000" cy="1646280"/>
          </a:xfrm>
          <a:prstGeom prst="rect">
            <a:avLst/>
          </a:prstGeom>
          <a:solidFill>
            <a:srgbClr val="c0c0c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ir is a mixture,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 varies from time to time and from place to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2120" y="2057400"/>
          <a:ext cx="4343400" cy="337356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ion by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ble gases (mainly argon) 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n di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54"/>
          <p:cNvSpPr/>
          <p:nvPr/>
        </p:nvSpPr>
        <p:spPr>
          <a:xfrm>
            <a:off x="2971800" y="2808360"/>
            <a:ext cx="2133720" cy="2601720"/>
          </a:xfrm>
          <a:prstGeom prst="rect">
            <a:avLst/>
          </a:prstGeom>
          <a:noFill/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52520" y="1598760"/>
            <a:ext cx="76197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photosynthesis, green plants convert carbon dioxide and water into glucose and oxygen in the presence of sun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tle 5"/>
          <p:cNvSpPr/>
          <p:nvPr/>
        </p:nvSpPr>
        <p:spPr>
          <a:xfrm>
            <a:off x="466560" y="336600"/>
            <a:ext cx="822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es </a:t>
            </a:r>
            <a:r>
              <a:rPr b="0" lang="en-US" sz="2800" spc="-1" strike="noStrike">
                <a:solidFill>
                  <a:srgbClr val="0551ff"/>
                </a:solidFill>
                <a:latin typeface="Arial"/>
              </a:rPr>
              <a:t>rem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1066680" y="0"/>
            <a:ext cx="7010640" cy="52023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762120" y="5562720"/>
            <a:ext cx="76197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other types of greenhouse ga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 (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nitrous oxide (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14400" y="12952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762120" y="1371600"/>
            <a:ext cx="76197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  <a:ea typeface="Times New Roman"/>
              </a:rPr>
              <a:t>The natural greenhouse effect is crucial for maintaining the proper temperature needed to sustain life on Ear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these greenhouse gases, Earth’s surface temperature would be –40 °C and it would be permanently covered with 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800280" y="1295280"/>
            <a:ext cx="754380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house gases, such as carbon dioxide, are building up rapidly in the atmosp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activities like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burning of fossil fuels and large scale cutting down of for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4289400" y="3672000"/>
            <a:ext cx="3591000" cy="2382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3"/>
          <a:stretch/>
        </p:blipFill>
        <p:spPr>
          <a:xfrm>
            <a:off x="863640" y="372420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00280" y="1295280"/>
            <a:ext cx="75438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, carbon dioxide is being added to the atmosphere at a higher rate than photosynthesis can remove the excess 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effect of carbon dioxide build-up i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an increase in the Earth’s average temperat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wa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23800" y="1125360"/>
            <a:ext cx="757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ecrease in crop yields world-wide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the areas that are currently covered by vegetation may become deserts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elting of large quantities of ice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North Pole and South Pole. This will cause the levels of oceans to rise and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loo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ow-lying countries such as the Netherland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apid evaporation of water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Earth’s surface. When this happens, carbon dioxide dissolved in the oceans will be driven out into the atmosphere. This adds further to the greenhouse eff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of Global Warm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41440" y="6181560"/>
            <a:ext cx="41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global w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paration of Air into its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4" descr=""/>
          <p:cNvPicPr/>
          <p:nvPr/>
        </p:nvPicPr>
        <p:blipFill>
          <a:blip r:embed="rId2"/>
          <a:srcRect l="3363" t="0" r="0" b="0"/>
          <a:stretch/>
        </p:blipFill>
        <p:spPr>
          <a:xfrm>
            <a:off x="0" y="3219480"/>
            <a:ext cx="9144000" cy="3186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6"/>
          <p:cNvSpPr/>
          <p:nvPr/>
        </p:nvSpPr>
        <p:spPr>
          <a:xfrm>
            <a:off x="10666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is fir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o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4495680" y="16765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quid air is then separated into its constituents (or fractions)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ractional distil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04920" y="579132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air pollutants &amp; it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Pollu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1257480" y="13431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pol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condition in which air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 high concentration of certain chemic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y harm living things or damage non-living th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1295280" y="3048120"/>
            <a:ext cx="6324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pollution is caused by solid particles and poisonous gases in the 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1219320" y="4191120"/>
            <a:ext cx="670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ir pollutants inclu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rbon monoxide, oxides of nitr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sulphur diox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217520" y="5335560"/>
            <a:ext cx="670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video on Air Poll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31840" y="322200"/>
          <a:ext cx="8705880" cy="5926320"/>
        </p:xfrm>
        <a:graphic>
          <a:graphicData uri="http://schemas.openxmlformats.org/drawingml/2006/table">
            <a:tbl>
              <a:tblPr/>
              <a:tblGrid>
                <a:gridCol w="1706400"/>
                <a:gridCol w="3578400"/>
                <a:gridCol w="342108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252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a) Carbon mon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 indent="9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complete combustion of carbon-containing substances eg. charcoal, wood, petrol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 indent="9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arbon monoxide reacts with haemoglobin in the blood to form carboxyhaemoglobin so the haemoglobin cannot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ranspo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xygen to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st of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ody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Cause headaches, fatigue breathing difficulties or even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1" descr=""/>
          <p:cNvPicPr/>
          <p:nvPr/>
        </p:nvPicPr>
        <p:blipFill>
          <a:blip r:embed="rId2"/>
          <a:srcRect l="10614" t="0" r="11265" b="0"/>
          <a:stretch/>
        </p:blipFill>
        <p:spPr>
          <a:xfrm>
            <a:off x="7230960" y="2717640"/>
            <a:ext cx="1630440" cy="2086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2033640" y="2606760"/>
            <a:ext cx="31305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31840" y="322200"/>
          <a:ext cx="8731080" cy="5935680"/>
        </p:xfrm>
        <a:graphic>
          <a:graphicData uri="http://schemas.openxmlformats.org/drawingml/2006/table">
            <a:tbl>
              <a:tblPr/>
              <a:tblGrid>
                <a:gridCol w="1620720"/>
                <a:gridCol w="4278240"/>
                <a:gridCol w="283212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96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b) Oxides of 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eg. nitrogen monoxide, NO &amp; nitrogen dioxide, NO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actions that occur in car engines (</a:t>
                      </a: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ternal combustion engines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From light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itrogen reacts with oxygen in the air to form nitrogen monoxid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NO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itrogen monoxide reacts with oxygen to form nitrogen dioxide (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NO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 Eye irr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Brea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fficul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) Lung inflammation (bronchit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) Acid r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Picture 15" descr=""/>
          <p:cNvPicPr/>
          <p:nvPr/>
        </p:nvPicPr>
        <p:blipFill>
          <a:blip r:embed="rId2"/>
          <a:stretch/>
        </p:blipFill>
        <p:spPr>
          <a:xfrm>
            <a:off x="6153120" y="3306600"/>
            <a:ext cx="2681280" cy="2011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6168960" y="4735440"/>
            <a:ext cx="2683080" cy="19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98520" y="617400"/>
          <a:ext cx="8396280" cy="5569200"/>
        </p:xfrm>
        <a:graphic>
          <a:graphicData uri="http://schemas.openxmlformats.org/drawingml/2006/table">
            <a:tbl>
              <a:tblPr/>
              <a:tblGrid>
                <a:gridCol w="1646280"/>
                <a:gridCol w="3659040"/>
                <a:gridCol w="3090960"/>
              </a:tblGrid>
              <a:tr h="39780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140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c) Sulfur di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mbustion of sulfur containing fossil fuels (especially co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volcano eru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fur reacts with oxygen in the air to form sulfur dioxid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S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 Eye irr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Brea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fficul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) Lung inflammation (bronchit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) Acid r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2511360" y="2614680"/>
            <a:ext cx="2259000" cy="1700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3"/>
          <a:stretch/>
        </p:blipFill>
        <p:spPr>
          <a:xfrm>
            <a:off x="5776920" y="3629160"/>
            <a:ext cx="29718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44:27Z</dcterms:created>
  <dc:creator>Chew Meng</dc:creator>
  <dc:description/>
  <dc:language>en-US</dc:language>
  <cp:lastModifiedBy>MOE, SINGAPORE</cp:lastModifiedBy>
  <dcterms:modified xsi:type="dcterms:W3CDTF">2011-12-15T03:21:14Z</dcterms:modified>
  <cp:revision>39</cp:revision>
  <dc:subject/>
  <dc:title>Slide 1</dc:title>
</cp:coreProperties>
</file>